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A0D-4578-4B04-B1ED-16E35930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F03-6A77-4FF7-8B0B-B4AD02C7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EF0-CD22-4EDF-8143-3C460C19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A82-BC80-4F1E-B719-99DC70DF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544-D420-4FDC-BFA7-50E1596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6E5-4134-49F8-9397-6C8DF306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B6C-F890-4D3E-8D10-C686E2F4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91F-CBFC-49B8-89F9-42B699B3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49A-491C-476C-8E12-CFDF2B1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403-543B-4478-889B-4DC09467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4C2-F32E-4F28-A731-5FBE1EC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F7A-CEFD-458C-97EC-4269561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530-0207-4955-A431-30DF4E16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’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5335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63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0" y="1219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6324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5867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5410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5638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3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3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0" y="5181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0" y="4724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352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ré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0" y="472752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sonnes concer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67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5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6094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0" y="6095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6629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0600" y="49528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nsul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0" y="1600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81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1981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63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62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2362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743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124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0" y="3124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05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01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1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0" y="3505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1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0" y="3886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63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267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2940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mité de pilotage (X) dans les cases correspo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</dc:creator>
  <dc:description/>
  <dc:language>en-US</dc:language>
  <cp:lastModifiedBy>rochas</cp:lastModifiedBy>
  <cp:lastPrinted>2000-05-11T10:17:14Z</cp:lastPrinted>
  <dcterms:modified xsi:type="dcterms:W3CDTF">2004-04-01T13:42:18Z</dcterms:modified>
  <cp:revision>70</cp:revision>
  <dc:subject/>
  <dc:title>Contrôle interne des risques</dc:title>
</cp:coreProperties>
</file>